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A2B-B45B-473A-8688-A7539F46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4D1-1472-4A17-B191-5364712A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A5CF5-453D-4175-A950-F9E236A8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9779D-6CC2-4929-8213-9424214F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6BF9C-FC7B-4284-96B5-36ED0AF2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FFAA8-B0E5-455D-AD36-6313AE8E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F9164-5A04-4D49-8559-4A7AD6AE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B5C97-D681-4660-B28B-435AAFEB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C67BE-4C36-4DEA-94FE-23A6FC5F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14C7F-668D-4144-8E9E-AEB029AD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B4B14-A5B4-4045-BDD6-BB715EDA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635B6-0FD0-41C0-A59F-27E4DE7D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56A-26F3-4521-8129-BAF18DF6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3CF83-5F52-4AF9-8B80-32495802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10672-6BD0-4A58-863C-4F63CC60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F1E83-D3DB-4E22-9345-EC67DDF1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65EBB-06CB-46F0-BA06-30B5F6A7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0CF97B-056B-4F43-B634-72092543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203C9-71EC-4E77-88EA-53DBD4BF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55DC1-D6B4-4494-A839-19AF0917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3F859-3274-4F18-90ED-B98FB913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FE55F-D61E-4151-B32C-7540B403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0A39D-8FE1-42E8-BFAB-7072AF64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6CB-3EE3-44ED-8E37-BACBB98A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57828-BCF9-4C7B-93F7-747F5A70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B2EB3-5FC5-4E51-82E8-C1CD7CD0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47384-4605-4674-83C5-64D77EC4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E5273-2DC8-4532-B17F-D33277D0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108B2-8A45-48C3-87E4-2B404EFF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78472-04E8-4490-B406-62E692E1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3500F-9FA8-4E75-A38E-F513B026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4FD4E-A9A4-4634-8307-BB925E28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CD223-7A6E-4C73-9C00-B54F9C5A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A97C2-B88D-45F4-BC38-2715E914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A4DE-05E2-431C-95C5-A8BC3C60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41EE5-3307-48AA-B25B-CB2FE2AC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F5F80-206B-4095-905D-0CBD6944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8196B-53E1-43F7-9A70-40197613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44A68-B374-40CB-B4DA-FE8E2EF2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61A63-E354-4F51-A0AB-D900DD6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ADAC5-502E-4B5B-99D5-EB39E2F3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0DCC6-A50D-4586-BA20-D00C9F2D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9982C-89BD-4135-B2D5-B619EEF3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40145-05C7-44DD-947B-1854CC57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7CC7C-3B91-4774-81AE-604E00C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6ED6-1185-4475-AC67-DA029A8A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77ABD-B091-45FE-A326-FEA35E6C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15045-B35E-4E72-8551-7F604845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74806-248F-41EA-B387-76383E8E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80EED-AA4F-41C5-92A4-D3879560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58E8C-101E-4234-A675-8A5A4BA4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057B-FC45-43B0-8733-3022AD48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F713-2DD2-4F0D-9090-67D4574D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E331-B90A-4B56-8CA5-0A495CE7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6431-BA8E-4426-90BF-8E347F95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771F-4174-4F9C-A457-D1312154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FA0-716C-4771-A249-AA2DF9EA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A5D4-0E52-42AA-90F6-B3EF4019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23B1-1F95-4DBE-86A2-6F2FC3A3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DB7F-F5AE-458A-B04C-60660838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1291-FC60-4FA4-90F1-3BB333C3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CCF7-FA5F-4094-B91A-5856BFA4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A201-3FE6-40F4-B262-5893DEBB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944B-8A07-4310-9D63-0920911F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E88B-9B38-4C9F-9D40-52F4952B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240B-187E-40A2-B9A5-FA97D78E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B56A-3E04-481B-89BC-58D5FFE4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1FA-0205-40FA-BC94-9900B603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0050-9621-42A6-96C5-53820BF4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5C2D-E8FD-4B6D-99DA-F8CC3453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89288-AFE9-42DF-B86E-08C09F5F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F6C1-E341-4230-95A9-E17BDD0D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C128E-8D39-4093-8E13-7C8CD06C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FA93-ADA8-499E-90E7-DE125CBB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F6D9E-D93A-4445-9301-6C138025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1B55-BF6E-4BD1-9630-11AE056B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8E0C6-FB71-48E6-9B39-C79EBB57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5723-3694-4DD8-945A-8B314FFF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561-CCBB-4C02-AEC0-5365FF43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812A2-1C0B-4744-AFB2-76BA115A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6CA2-7426-40BA-AF55-F38626CA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B73A1-4D5E-4D14-847B-1BC2D843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A759A-60B4-4046-AC10-83C97163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3346-09F2-440A-B913-32828D8A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4FE72-A9E7-492B-99B1-52B858F9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22B96-BF72-4E26-B04F-4B6708B7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02B96-731C-412E-9676-FC45475C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0362C-E443-4F3D-9962-2DB1BFCE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6DA37-93BF-4965-8D83-B3835535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8A9-E4D3-4103-A7A7-E9D48CE9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0C51C-71BC-40BE-8BCE-F46F51F7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15C72-FA7C-4D30-B415-C75B6626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D85A3-06E1-4E4A-847B-DE3A1B72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F847C-F84C-4E4A-AC65-7D787442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4C70C-05DE-406C-9A99-1DAF52E5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9E5AD-16BE-4D3A-8946-CF3538BC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0B056-4072-448E-AE20-1FA11179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CB8FB-6137-4DBB-888E-A1EA9480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A2C02-DF15-43B6-98C5-37A9F651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9DD9C-8604-4ADD-B311-59C12D1F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514-3ED7-4F31-AF6E-C3C6F904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CA065-358B-41FD-A336-C1E0EC71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881EC-5F66-48B6-B8FE-65695F6C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7746C-D202-4CB7-A44F-3FF627A6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ADDB4-F4D4-4D54-8CEA-EDC1603A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5D92F-F3B4-4F91-B136-F75DA1A8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43991-D9DF-47E3-897E-70BBF4D6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95F23-5A24-4267-98E1-6B57585D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F313D-B312-40E2-BAAA-D2DAE7CD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C874-DB04-438B-98A9-A62C62A2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FB949-D69C-4227-9DC0-DDC66C1D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63AB-9401-438A-AE1A-EC464D20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8E3F9-F6A9-4DB4-815C-F274BE41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02663-B949-4C04-93E5-BD05E68E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07A17-D7DD-46A1-9FD7-9575FFFE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FA980-7D78-4AF0-96CC-08DEB205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4DD99-3A23-40D7-9569-76A55177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8B727-0B0A-4EE1-A53B-1708A0AD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0BAB7-D411-4272-90A4-5DD79160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B4B1E-6971-48DA-B175-D279C3AC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3B3E3-807B-419D-8FB4-8519431C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0E1C7-5554-439A-9A04-CCBBEDE3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5CE-0D57-43C6-80FE-81D15D1C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D9557-A0E7-4D65-BF3B-664BCD71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82775-36FB-4F06-A17C-986F239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4CA52-7F87-4B51-BC83-91C761D4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EB785-5A5D-43F5-BDBF-47D70527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86604-CA76-4424-AA60-68D6BF2B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DB731-A696-4437-9929-CA7B7019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19C1A-A135-4D2B-93E9-90D76B49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F9F9C-9E70-4DCE-9162-1234970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80C90-7243-4B03-B572-2BEDE256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F33B3-77CD-4534-8247-14970AB5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183-B62E-4A46-A72C-BABB3B18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1B9C8-3321-461B-82F4-2832D4E9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9029A-D1D6-4FD4-8FCA-442F098A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B06E4-6E89-46EE-8A21-98A1D92F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323B1-26FA-4E63-BE17-7EE882F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CE285-1F20-4950-A693-6E719C8B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BBDCD-4E14-466C-B72C-2A261435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3BAD7-D1E9-4C9B-8EC4-28C195E1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18FCF-12B3-4189-A162-DFA1B332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003F5-3D61-4241-AE77-2A242607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8BD4E-B3BC-457D-9415-1D385768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4910-41D0-4ABE-83FE-4B8CABCA0473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EA2E-AEE2-4FFC-A308-7C1BED1F59BE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b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C537-CBAD-4311-B223-D2334B08538C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b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B98E-DF77-4592-B33B-D07D97B97C63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b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B7A7-569A-4BF1-B1A1-922065BCF0E4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b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28DC-D053-4EF7-A3D8-735D8E9BE8FD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6BE8-7B1E-44AE-B9B8-BC2E93AE9064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b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0349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C3B5-8B95-486C-A444-37148A88F8DF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b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0349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57FF-5C20-4E44-8B2F-B89C9E255FD3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3F9D-08BB-4579-88D8-CD3BFFA7A8D5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E537-8181-4D11-9BA1-4F7F4BD060F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C3BC-6118-435C-876C-206B5D4F7555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6zvqH1q-FsRMXM&amp;tbnid=c-mZ92lHuJ86xM:&amp;ved=0CAUQjRw&amp;url=http://blog-easy-makemoney.blogspot.com/&amp;ei=lDk6UeK8HIaJ2AWRk4GwCQ&amp;bvm=bv.43287494,d.b2I&amp;psig=AFQjCNGFiHuX4dyWrY0K1eh9xMiXn857bw&amp;ust=1362856229965496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49e"/>
                </a:solidFill>
                <a:latin typeface="Georgia"/>
              </a:rPr>
              <a:t>NICOLE HARVE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49e"/>
                </a:solidFill>
                <a:latin typeface="Georgia"/>
              </a:rPr>
              <a:t>SHANE PRUET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49e"/>
                </a:solidFill>
                <a:latin typeface="Georgia"/>
              </a:rPr>
              <a:t>BAILEY YOU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49e"/>
                </a:solidFill>
                <a:latin typeface="Georgia"/>
              </a:rPr>
              <a:t>AP GOVERNMEN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49e"/>
                </a:solidFill>
                <a:latin typeface="Georgia"/>
              </a:rPr>
              <a:t>6</a:t>
            </a:r>
            <a:r>
              <a:rPr b="1" lang="en-US" sz="1600" spc="-1" strike="noStrike" baseline="30000">
                <a:solidFill>
                  <a:srgbClr val="00349e"/>
                </a:solidFill>
                <a:latin typeface="Georgia"/>
              </a:rPr>
              <a:t>TH</a:t>
            </a:r>
            <a:r>
              <a:rPr b="1" lang="en-US" sz="1600" spc="-1" strike="noStrike">
                <a:solidFill>
                  <a:srgbClr val="00349e"/>
                </a:solidFill>
                <a:latin typeface="Georgia"/>
              </a:rPr>
              <a:t> PERIO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bd3"/>
                </a:solidFill>
                <a:latin typeface="Georgia"/>
              </a:rPr>
              <a:t>What decides elections?</a:t>
            </a:r>
            <a:endParaRPr b="0" lang="en-US" sz="4200" spc="-1" strike="noStrike">
              <a:solidFill>
                <a:srgbClr val="002d8b"/>
              </a:solidFill>
              <a:latin typeface="Georgia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Parties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ongest determination for ele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mocra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Less attached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publica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Higher voting percentage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Firmly aligned 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Independent voter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</p:txBody>
      </p:sp>
      <p:pic>
        <p:nvPicPr>
          <p:cNvPr id="610" name="Picture 2" descr="http://3.bp.blogspot.com/-fvzrmIdO6a8/UDTbJ87uYKI/AAAAAAAAF1k/gw8MGWvwtpM/s640/Dem+vs+GOP+Same+Color++-+00.jpg"/>
          <p:cNvPicPr/>
          <p:nvPr/>
        </p:nvPicPr>
        <p:blipFill>
          <a:blip r:embed="rId1"/>
          <a:stretch/>
        </p:blipFill>
        <p:spPr>
          <a:xfrm>
            <a:off x="3882960" y="4108320"/>
            <a:ext cx="4926240" cy="1920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Issues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spective voting – “forward-looking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Candidate’s ideas for handling issue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Requires a lot of information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tra time and strong belief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trospective voting – “backwards-looking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Candidate’s success while in office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Decides election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80 Reagan vs. Car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Economic condition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</p:txBody>
      </p:sp>
      <p:pic>
        <p:nvPicPr>
          <p:cNvPr id="613" name="Picture 4" descr="http://2.bp.blogspot.com/-Nvsp5ufqBFA/UNu6x_F1fBI/AAAAAAAAAqE/EEbVHYB4DRg/s1600/37250_MONEY_MAGN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572000"/>
            <a:ext cx="2125800" cy="1752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http://www.imageenvision.com/150/29906-clip-art-graphic-of-a-man-carrying-a-heavy-money-bag-on-his-back-by-djart.jpg"/>
          <p:cNvPicPr/>
          <p:nvPr/>
        </p:nvPicPr>
        <p:blipFill>
          <a:blip r:embed="rId3"/>
          <a:stretch/>
        </p:blipFill>
        <p:spPr>
          <a:xfrm>
            <a:off x="5943600" y="4648320"/>
            <a:ext cx="1676520" cy="1698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5 -0.00162 E">
                                      <p:cBhvr>
                                        <p:cTn id="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ampaign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wakens partisan loyaltie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ndidates under pressur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re  values and charact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Themes and tone of statement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imary ele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Activists and single-issue group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</p:txBody>
      </p:sp>
      <p:pic>
        <p:nvPicPr>
          <p:cNvPr id="617" name="Picture 2" descr="http://rack.0.mshcdn.com/media/ZgkyMDEyLzEyLzA0Lzk1L2luZm9ybXlvdXJ2LmJYTi5qcGcKcAl0aHVtYgk5NTB4NTM0IwplCWpwZw/4ce92bb3/d4e/inform-your-vote-with-these-6-presidential-campaign-apps-faa5ef2099.jpg"/>
          <p:cNvPicPr/>
          <p:nvPr/>
        </p:nvPicPr>
        <p:blipFill>
          <a:blip r:embed="rId1"/>
          <a:stretch/>
        </p:blipFill>
        <p:spPr>
          <a:xfrm>
            <a:off x="5407200" y="1670040"/>
            <a:ext cx="3260520" cy="18414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Winning Coalition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se voters and swing vot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mpaign targe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Loyalty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Importance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mocr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African American loyalty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Fewer Catholics, southerners, and unionist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public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Business and professional loyalty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Poor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Farmer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7" descr="http://www.clker.com/cliparts/2/4/0/8/1275231627885741326heart%20clipart.png"/>
          <p:cNvPicPr/>
          <p:nvPr/>
        </p:nvPicPr>
        <p:blipFill>
          <a:blip r:embed="rId1"/>
          <a:stretch/>
        </p:blipFill>
        <p:spPr>
          <a:xfrm>
            <a:off x="6172200" y="1600200"/>
            <a:ext cx="2114640" cy="20574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8:48:52Z</dcterms:created>
  <dc:creator>young104727</dc:creator>
  <dc:description/>
  <dc:language>en-US</dc:language>
  <cp:lastModifiedBy>lullmannj</cp:lastModifiedBy>
  <dcterms:modified xsi:type="dcterms:W3CDTF">2013-03-27T12:37:34Z</dcterms:modified>
  <cp:revision>14</cp:revision>
  <dc:subject/>
  <dc:title>What decides elections?</dc:title>
</cp:coreProperties>
</file>